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73C7-AB05-45E1-9554-BA353BF5B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9DB4-428B-4D90-B25E-AF85DD169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8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Français 3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Revue du présen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</a:rPr>
              <a:t>Qu’est-ce qu’on fait?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2" descr="C:\Users\esmith4\AppData\Local\Microsoft\Windows\Temporary Internet Files\Content.IE5\UX5A96T0\MC900439839[1].png"/>
          <p:cNvPicPr/>
          <p:nvPr/>
        </p:nvPicPr>
        <p:blipFill>
          <a:blip r:embed="rId1"/>
          <a:stretch/>
        </p:blipFill>
        <p:spPr>
          <a:xfrm>
            <a:off x="457200" y="1676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esmith4\AppData\Local\Microsoft\Windows\Temporary Internet Files\Content.IE5\7BBPLW8Y\MC900440424[1].wmf"/>
          <p:cNvPicPr/>
          <p:nvPr/>
        </p:nvPicPr>
        <p:blipFill>
          <a:blip r:embed="rId2"/>
          <a:stretch/>
        </p:blipFill>
        <p:spPr>
          <a:xfrm>
            <a:off x="6858000" y="304920"/>
            <a:ext cx="1827360" cy="1506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Users\esmith4\AppData\Local\Microsoft\Windows\Temporary Internet Files\Content.IE5\UX5A96T0\MC900383328[1].wmf"/>
          <p:cNvPicPr/>
          <p:nvPr/>
        </p:nvPicPr>
        <p:blipFill>
          <a:blip r:embed="rId3"/>
          <a:stretch/>
        </p:blipFill>
        <p:spPr>
          <a:xfrm>
            <a:off x="6629400" y="4724280"/>
            <a:ext cx="1817640" cy="165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:\Users\esmith4\AppData\Local\Microsoft\Windows\Temporary Internet Files\Content.IE5\8K89QBVU\MC900324606[1].wmf"/>
          <p:cNvPicPr/>
          <p:nvPr/>
        </p:nvPicPr>
        <p:blipFill>
          <a:blip r:embed="rId4"/>
          <a:stretch/>
        </p:blipFill>
        <p:spPr>
          <a:xfrm>
            <a:off x="2514600" y="4724280"/>
            <a:ext cx="167652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Direction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25a28"/>
                </a:solidFill>
                <a:latin typeface="Times New Roman"/>
              </a:rPr>
              <a:t>Avec un partenaire, sortez un tableau, un feutre, et une gomm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25a28"/>
                </a:solidFill>
                <a:latin typeface="Times New Roman"/>
              </a:rPr>
              <a:t>Dans l’image, il y a des personnes qui font des activités variées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25a28"/>
                </a:solidFill>
                <a:latin typeface="Times New Roman"/>
              </a:rPr>
              <a:t>Ecrivez ce que chaque personne ou groupe de personnes fait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25a28"/>
                </a:solidFill>
                <a:latin typeface="Times New Roman"/>
              </a:rPr>
              <a:t>Attention à la bonne conjugaison!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647640"/>
            <a:ext cx="9144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520" y="55623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Jeanne et Guy…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travaillent!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219320" y="1087560"/>
            <a:ext cx="77724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55623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Max…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téléphone!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219320" y="1087560"/>
            <a:ext cx="77724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520" y="55623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Ousmane et toi, vous…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parlez / discutez!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219320" y="1087560"/>
            <a:ext cx="77724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520" y="55623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Daniel et Paul…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mangent!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219320" y="1087560"/>
            <a:ext cx="77724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520" y="55623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Sylvie et Claire…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écoutent de la musique!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219320" y="1087560"/>
            <a:ext cx="77724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55623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Sandrine et moi, nous…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étudions / lisons / parlons!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219320" y="1087560"/>
            <a:ext cx="77724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3:00:23Z</dcterms:created>
  <dc:creator>EAS</dc:creator>
  <dc:description/>
  <cp:keywords/>
  <dc:language>en-US</dc:language>
  <cp:lastModifiedBy>Edouard Smith</cp:lastModifiedBy>
  <dcterms:modified xsi:type="dcterms:W3CDTF">2013-09-04T13:40:25Z</dcterms:modified>
  <cp:revision>51</cp:revision>
  <dc:subject/>
  <dc:title>C’est à toi!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11599990</vt:lpwstr>
  </property>
</Properties>
</file>